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8E7D4-780C-436D-BF99-7B87EBFF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18E4-FECB-429C-AAAC-08F362580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394EA-B16A-469C-86AE-05DDB1A38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EE1BE-0E82-4A8A-9760-65F4D5C84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B181A-A7DA-4FEE-BB57-57BA4EE4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28263-0AD9-4EFE-B9F2-292AF67A0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C9AE-C125-458E-99A5-3E75F86D9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3AA6-1E3A-48DE-A76B-0619647C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88A6D-554D-432A-844D-08002114F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E931-B554-4281-B4AA-BD7D6114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9B4E-50B7-4AA9-913C-C487113A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BC10-E6F3-47D2-A8DC-D7F241E1C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900E-975A-4817-9A01-8341AE591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 2 Lec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Society 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the New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8" name="Group 8"/>
          <p:cNvGrpSpPr/>
          <p:nvPr/>
        </p:nvGrpSpPr>
        <p:grpSpPr>
          <a:xfrm>
            <a:off x="0" y="1374840"/>
            <a:ext cx="9144000" cy="4108320"/>
            <a:chOff x="0" y="1374840"/>
            <a:chExt cx="9144000" cy="4108320"/>
          </a:xfrm>
        </p:grpSpPr>
        <p:sp>
          <p:nvSpPr>
            <p:cNvPr id="69"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Group 6"/>
            <p:cNvGrpSpPr/>
            <p:nvPr/>
          </p:nvGrpSpPr>
          <p:grpSpPr>
            <a:xfrm>
              <a:off x="0" y="1374840"/>
              <a:ext cx="9144000" cy="4108320"/>
              <a:chOff x="0" y="1374840"/>
              <a:chExt cx="9144000" cy="4108320"/>
            </a:xfrm>
          </p:grpSpPr>
          <p:sp>
            <p:nvSpPr>
              <p:cNvPr id="71"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ers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bernatek</cp:lastModifiedBy>
  <dcterms:modified xsi:type="dcterms:W3CDTF">2009-01-22T21:04:35Z</dcterms:modified>
  <cp:revision>8</cp:revision>
  <dc:subject/>
  <dc:title>Old versus New Economy</dc:title>
</cp:coreProperties>
</file>